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4B87E-73CD-4C25-A9AA-AB89C6B41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95C0D-FAAD-490D-B932-516DB2714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C290F0F-5B69-42A0-899E-85176F9E1FB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0AD05E5-845A-4C39-B6A2-D0B0F91E635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C42E615-247B-4A4E-8CAB-917AA004D39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F7E6D26-8CDA-485D-B8AD-BFCAADEE8A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22D207F-2D3F-4AB2-9AA0-96E18C8373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D7464B3-DE28-4439-8946-787D6108C4F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182D650-DC4F-48F7-BF9C-67771B433F9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4FB9958-562D-4A3E-B705-4A92BA639D5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051A583-624C-43D1-B82B-F3A6685F410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47D54DA-7ACB-499A-A5C3-91E2CCA89E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0135D-18D1-4A1F-942E-F4C70E973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E4FAD5F-1D91-46EF-80D3-47F5447ABC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27511F1-84BE-4BAD-B7C0-AEF8C67082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ED1617F-0E86-4EBD-9EBA-9BE01BCD1F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269C660-B4DE-44CB-BD07-460E763E2D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030453E-6D6C-415F-8441-2FEB0FA850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29F00EF-D0A9-4137-B2C9-746143B64C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00AA59D-F62E-4C28-BA59-E49118B3D8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D8E70FA-693C-4E60-82D3-C998F9A4B7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FB31CC4-99E8-42B5-A8B6-008EF1FDEC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EA6C235-9424-4FA8-9D5C-DE3E46AEBA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656E6-C92E-48C5-8DD9-EA011DB72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8101530-1640-4693-B8BA-D9D2906EA6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FB6B937-96EE-4CFA-BC64-1375FF5465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5EF308-C7D2-47F5-8DB0-D8CB9F9750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4CE5FB-A3E9-462F-95BC-65F9241DA5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9E3B26-91CA-40AB-9830-C785404E75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1DA6DF-ED4A-41BA-8CC4-B91CE05872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1788E0-4B5A-4394-9ECF-3A0BA5B18D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7B3E93-EC8A-4FE2-9317-90B8C09F5B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A3711B-B37A-44FD-9EA2-14CF2B036A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751551-FB96-45FA-BA06-24CB2BB2D4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1CD57-E97B-43CB-98DF-48FC296C78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0455ED-B5FE-4EDB-839E-0B84135C35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2AFED8-2F6C-4FFD-B7FE-E8290A5CF5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24F87C-2985-48D2-A67B-79FC09A047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E67B699-EC2D-499B-B50B-C0E16C36AE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836D3AF-B45A-408A-A885-7B38A261E7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A26DBDA-A1B0-4B4E-BCA2-06AD5CAB9A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7D11FC2-518F-4F17-95A8-0BDDAC16BE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11E34F7-EE7E-4700-BCA0-6D99E27218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065908B-E115-49CE-80CF-F297A00747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0B9847B-0D4E-4E0B-A6CF-67ADA064FE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13087-7A9F-4653-8559-B7FAAFFF1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BD17AFA-9544-4F51-A988-6ACDEBC592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554445A-758F-45CA-8B4E-663D7F9C30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D0DA8FC-B452-44D6-9346-9914EAFC3D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CF91C87-2970-49B2-ADB4-01975CAF5D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2C753AB-E686-4DE9-8AC0-2BE9B3AEAD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9DD78-38CE-489F-A2BA-4AEB54EC3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86A2A-1A6B-45C1-B85C-0D5BB8248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3419D-475F-40BC-B54B-7534C14FE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4731A-AD03-460D-8666-D002CD4B3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11872-7C0F-4F94-8B26-2521F7738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8B768-E229-4663-82A9-C380C1ED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5F74D-77BD-4C1E-A5FC-338B2B219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6BFF2-63A1-4C3E-92DB-D2FEBFEDE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4BD2B-B405-49BE-BCE6-C08562AA1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559E3-5909-4DE0-8D44-2EE173BA7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51EE2-3C72-4D9E-AFFE-3171D0FA2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1E5FD7-482E-4A55-A92E-507DF49F60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59BC71-FB7E-4C91-80C0-B90C8B0793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E4B6CB-0A66-4017-9450-1C43C2F2A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7FDE9-D56E-4E73-A6B8-315C6586D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107122-6CD5-4D8A-B70A-D7096D8E2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1CAF7-B467-46A2-BEC9-D8F776B47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8BD12-EB80-49A2-94FA-F206FD29A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1B1ED-2A94-4DBE-8D5C-FF58AD1A8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8DA8E-A7D8-4E82-BEEA-393A2593F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DD7658-CEAD-4420-8639-A4E89903C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26391-4581-4142-BEB5-A82E344FC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4BB952-B4C2-498C-859A-C7D434961B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699036-C59E-4973-B16A-48B814C29F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CA96177-4CBC-41BD-9929-5A3691E1A1F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A60F30A-59AC-4C29-BA0E-CFB28B8DB9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AF2E854-EB36-44D4-8C31-247B8CBA07E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13386-F8AF-42CC-8EC3-E0F78E716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9D77FA6-2153-405F-B594-8E9C69B4ED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D28B5BE-42C0-42CD-9377-107BE289CB5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8A4C476-7C90-4F8B-9C12-9CD14201FEA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DBE3034-E108-425C-BA1B-6EEFDCD19D7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8275A01-EF54-42B9-A893-B6320682964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B750A47-164B-4B99-9E3C-AD09772446E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39E8DF5-93F0-4810-AE2B-00A74B33F0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E514980-27CD-4003-96B7-5532FC7A3BC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B846EC1-7539-42E7-B19E-4A9B226816C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F76F1D-6C2E-43E2-9E95-743698D36E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58E2-DB7E-43A0-BE7C-22BEB73A5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1EABE3-6AF1-4EFC-B56D-AEC4AF6138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14A17E-E005-4127-88CA-D182B8B07A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C93BC9-8F25-4361-B4DA-7C9C0E553F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67738-4471-4603-A8C3-90D1065DEC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1CFEFF-A893-485A-AFF6-5290ED8306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B9D6E8-A71B-4079-BD12-D66B3DF5E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7047D-B809-40DC-86AF-11CB6D321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005A2-537F-4EE9-9A87-B210ACA08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C369C1-2798-4EC4-952E-1E49EF40B9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F516E0-DB39-484C-B63E-9B1625E76A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5D313-6AAC-4C23-93C3-C413D8B79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E61483-8CE7-4154-9625-7D10745CFD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C44E7F-DA55-4C1D-B70B-7CAEBE57C0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A5CEC8-749F-4668-ABA0-8BEEF34F18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E1DC8B-D55F-4B0D-8305-040F0D93FA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47EAA1-8319-42B6-A4C0-D2C80BC0F4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D8D3BF-2515-4A5D-A050-818AF2BF2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D8D2A5-8104-4C85-B722-BDB8E267AB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E21D1-709B-48DF-8B45-D368BB353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BEFA4B-9EEA-4A4C-9198-422C863B3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3B80F8-B491-40BF-A1B9-0A36CC726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0627B-5FB6-4D93-83AA-5DC798630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716AF0-4E93-4B0F-B3D9-55D2CF331E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90D64C-A6B1-4B38-833D-D7604BE789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9E84CE-2A62-47DA-B1A1-0588BE793C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149FA7-10F2-410E-8A45-43E6754530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BC9FF-E3FC-4359-A48E-165DA2082C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3F593D-E0C1-4F98-8BA4-BA72438A9B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CBC9B5-C88A-4FCD-8224-C4003DB1C7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8FDDA6-75C8-4EE6-A2AD-AD7ED49B9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2DED26-3C9A-4E7A-8806-79A5F56843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34595-DBC7-4CC6-BA8A-5BCBF27FD8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5F9DE-8167-4FA6-BA52-7944CEB0E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880FE-83B9-4D65-939F-D2ABC4020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3218EA-3EFB-46A2-BF13-495FC879A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9B02C-E336-4132-AC61-FAD0D6E197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F7705E-8A43-40FE-A18F-1369200BBE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FF9082-2537-4F6B-9454-6EFD3CD883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6279CA-C364-42FF-89CA-819BEEA8D3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DF6914-1236-4FB7-B533-3A274D4DAC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12402E-719D-4257-BBAD-B2386B603D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C17314-19DC-4C8B-9A25-C58B7FBD9F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647C9-ED1D-4819-932D-7996371E4A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44BDB-04E5-4B03-A7C1-E031F7AB8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227DC0-647E-4F93-9E42-90F1B26F80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FE04A7-9DBD-4203-9E74-8B479F341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9238D9-F74C-48BC-A0DF-5B9E6AE45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1460E8-907A-4747-B380-88C0F0342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16E9FB-BC7A-41F0-A4DC-2AB931F3BD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F1C24F-FDC5-4FFD-8AF7-0CE873E89E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251F95-E022-4BF3-801B-10966B80BB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D575483-38F2-4942-B06C-82604181E05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6E55533-D41F-4904-AA98-6C2AF5553A0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6572D96-FE41-4B76-A06D-F8DD601525E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D3355-77BD-45F5-ABFD-AC98BDD67024}"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12B6F-B5B5-4143-825B-0F958D8C104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3D34E-127A-4B69-8CB3-5A4EEEF1133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9EF9D-2FEF-4073-9D07-95768FC32E01}"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6F133-ACC7-4818-B0E2-CE02695622EF}"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244B5-5908-4AE8-BEA7-B597DF92F68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AD75C-D6C8-4D15-8A50-4E6A286FA66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222D3-1121-499D-B12C-49411CAC4755}"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FA428-D53B-437F-BFC7-AC76875C3F09}"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5AC35-0BBA-441C-935D-1A5598AB42B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773B6-9A7C-4180-9825-AD1BC700550B}"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81A7F-9868-4711-9ACD-17D52E5AD92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0FB61-15EA-4526-A71A-6DEC93484D55}"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507D5-5D9A-4795-ACDD-41A56C381B8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5598F-7857-40A9-B1D9-9AEC85DA1465}"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0D31F-BB22-43EB-A64C-AFA5B6E0C30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D8717-8587-4A0A-A9BF-1E8AE4852C31}"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0C5CD-B656-47D9-B0B7-777E7BC21C4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CC024-3B6C-4BF0-B4A4-991167D8CA57}"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EE377-E371-40FB-97B0-27EDF6BA982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524D1-52BD-4411-B370-4F60B779BA75}"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00623-B985-4FBA-B7EF-5F1B6F561E54}"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47AE7-9012-45A7-AA2A-E387757B0BD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9D136-425A-4CC0-8C84-7CF325F622ED}" type="datetime">
              <a:rPr b="0" lang="en-US" sz="1400" spc="-1" strike="noStrike">
                <a:solidFill>
                  <a:srgbClr val="ffffff"/>
                </a:solidFill>
                <a:latin typeface="Georgia"/>
              </a:rPr>
              <a:t>07/31/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pic>
        <p:nvPicPr>
          <p:cNvPr id="606" name="Picture 3" descr=""/>
          <p:cNvPicPr/>
          <p:nvPr/>
        </p:nvPicPr>
        <p:blipFill>
          <a:blip r:embed="rId1"/>
          <a:stretch/>
        </p:blipFill>
        <p:spPr>
          <a:xfrm>
            <a:off x="3809880" y="3484440"/>
            <a:ext cx="1322640" cy="2175120"/>
          </a:xfrm>
          <a:prstGeom prst="rect">
            <a:avLst/>
          </a:prstGeom>
          <a:ln w="0">
            <a:noFill/>
          </a:ln>
        </p:spPr>
      </p:pic>
      <p:sp>
        <p:nvSpPr>
          <p:cNvPr id="607"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ALEXANDER JACOBS</a:t>
            </a:r>
            <a:endParaRPr b="0" lang="en-US" sz="1600" spc="-1" strike="noStrike">
              <a:solidFill>
                <a:srgbClr val="000000"/>
              </a:solidFill>
              <a:latin typeface="Georgia"/>
            </a:endParaRPr>
          </a:p>
        </p:txBody>
      </p:sp>
      <p:sp>
        <p:nvSpPr>
          <p:cNvPr id="608"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hematic Book Report on Number the Stars </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pic>
        <p:nvPicPr>
          <p:cNvPr id="609" name="Picture 3" descr=""/>
          <p:cNvPicPr/>
          <p:nvPr/>
        </p:nvPicPr>
        <p:blipFill>
          <a:blip r:embed="rId1">
            <a:lum bright="18000"/>
          </a:blip>
          <a:stretch/>
        </p:blipFill>
        <p:spPr>
          <a:xfrm>
            <a:off x="1752480" y="228600"/>
            <a:ext cx="5257800" cy="6093000"/>
          </a:xfrm>
          <a:prstGeom prst="rect">
            <a:avLst/>
          </a:prstGeom>
          <a:ln w="0">
            <a:noFill/>
          </a:ln>
        </p:spPr>
      </p:pic>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eorgia"/>
              </a:rPr>
              <a:t>Author: Lois Lowery</a:t>
            </a:r>
            <a:endParaRPr b="0" lang="en-US" sz="3300" spc="-1" strike="noStrike">
              <a:solidFill>
                <a:srgbClr val="7b9899"/>
              </a:solidFill>
              <a:latin typeface="Georgia"/>
            </a:endParaRPr>
          </a:p>
        </p:txBody>
      </p:sp>
      <p:pic>
        <p:nvPicPr>
          <p:cNvPr id="611" name="Content Placeholder 2" descr=""/>
          <p:cNvPicPr/>
          <p:nvPr/>
        </p:nvPicPr>
        <p:blipFill>
          <a:blip r:embed="rId2"/>
          <a:stretch/>
        </p:blipFill>
        <p:spPr>
          <a:xfrm>
            <a:off x="298440" y="1523880"/>
            <a:ext cx="8510760" cy="457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flict and Plot of Number the Stars</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ook Number the Stars takes place in Copenhagen, Denmark in 1943. Annemarie Johansen, is protecting her best friend Ellen Rosen, a Jew, from the Nazis. Annemarie’s family, and her best friend Ellen, all move to Annemarie's Uncle Henrik’s house because of the suspicion by the Nazis that Ellen isn’t part of their family. She is pretending to be Lise Johansen, Annemarie's dead older sister. Can they keep her safe? This story is a lesson to stand up for your love ones, and to care for the ones that matter the mos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4" name=""/>
          <p:cNvSpPr/>
          <p:nvPr/>
        </p:nvSpPr>
        <p:spPr>
          <a:xfrm>
            <a:off x="4065480" y="46980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in Characters</a:t>
            </a:r>
            <a:endParaRPr b="0" lang="en-US" sz="1800" spc="-1" strike="noStrike">
              <a:solidFill>
                <a:srgbClr val="000000"/>
              </a:solidFill>
              <a:latin typeface="Arial"/>
            </a:endParaRPr>
          </a:p>
        </p:txBody>
      </p:sp>
      <p:sp>
        <p:nvSpPr>
          <p:cNvPr id="615" name=""/>
          <p:cNvSpPr/>
          <p:nvPr/>
        </p:nvSpPr>
        <p:spPr>
          <a:xfrm>
            <a:off x="1295280" y="1547640"/>
            <a:ext cx="6400800" cy="6677640"/>
          </a:xfrm>
          <a:prstGeom prst="rect">
            <a:avLst/>
          </a:prstGeom>
          <a:noFill/>
          <a:ln w="0">
            <a:noFill/>
          </a:ln>
        </p:spPr>
        <p:style>
          <a:lnRef idx="0"/>
          <a:fillRef idx="0"/>
          <a:effectRef idx="0"/>
          <a:fontRef idx="minor"/>
        </p:style>
        <p:txBody>
          <a:bodyPr lIns="90000" rIns="90000" tIns="46800" bIns="46800" anchor="t">
            <a:spAutoFit/>
          </a:bodyPr>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Ellen Rosen- friend of the Johansons.</a:t>
            </a:r>
            <a:endParaRPr b="0" lang="en-US" sz="1800" spc="-1" strike="noStrike">
              <a:solidFill>
                <a:srgbClr val="000000"/>
              </a:solidFill>
              <a:latin typeface="Arial"/>
            </a:endParaRPr>
          </a:p>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nnemarie Johansen</a:t>
            </a:r>
            <a:endParaRPr b="0" lang="en-US" sz="1800" spc="-1" strike="noStrike">
              <a:solidFill>
                <a:srgbClr val="000000"/>
              </a:solidFill>
              <a:latin typeface="Arial"/>
            </a:endParaRPr>
          </a:p>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Kirsti Johanson</a:t>
            </a:r>
            <a:endParaRPr b="0" lang="en-US" sz="1800" spc="-1" strike="noStrike">
              <a:solidFill>
                <a:srgbClr val="000000"/>
              </a:solidFill>
              <a:latin typeface="Arial"/>
            </a:endParaRPr>
          </a:p>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Mom</a:t>
            </a:r>
            <a:endParaRPr b="0" lang="en-US" sz="1800" spc="-1" strike="noStrike">
              <a:solidFill>
                <a:srgbClr val="000000"/>
              </a:solidFill>
              <a:latin typeface="Arial"/>
            </a:endParaRPr>
          </a:p>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D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
          <p:cNvSpPr/>
          <p:nvPr/>
        </p:nvSpPr>
        <p:spPr>
          <a:xfrm>
            <a:off x="2712960" y="2068560"/>
            <a:ext cx="639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pic>
        <p:nvPicPr>
          <p:cNvPr id="617" name="Picture 4" descr=""/>
          <p:cNvPicPr/>
          <p:nvPr/>
        </p:nvPicPr>
        <p:blipFill>
          <a:blip r:embed="rId1"/>
          <a:stretch/>
        </p:blipFill>
        <p:spPr>
          <a:xfrm>
            <a:off x="808200" y="533520"/>
            <a:ext cx="7726320" cy="5943600"/>
          </a:xfrm>
          <a:prstGeom prst="rect">
            <a:avLst/>
          </a:prstGeom>
          <a:ln w="0">
            <a:noFill/>
          </a:ln>
        </p:spPr>
      </p:pic>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orld War 2</a:t>
            </a:r>
            <a:endParaRPr b="0" lang="en-US" sz="3300" spc="-1" strike="noStrike">
              <a:solidFill>
                <a:srgbClr val="7b9899"/>
              </a:solidFill>
              <a:latin typeface="Georgia"/>
            </a:endParaRPr>
          </a:p>
        </p:txBody>
      </p:sp>
      <p:pic>
        <p:nvPicPr>
          <p:cNvPr id="619" name="Content Placeholder 2" descr=""/>
          <p:cNvPicPr/>
          <p:nvPr/>
        </p:nvPicPr>
        <p:blipFill>
          <a:blip r:embed="rId2"/>
          <a:stretch/>
        </p:blipFill>
        <p:spPr>
          <a:xfrm>
            <a:off x="298440" y="1523880"/>
            <a:ext cx="8510760" cy="457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pic>
        <p:nvPicPr>
          <p:cNvPr id="620" name="Picture 3" descr=""/>
          <p:cNvPicPr/>
          <p:nvPr/>
        </p:nvPicPr>
        <p:blipFill>
          <a:blip r:embed="rId1"/>
          <a:stretch/>
        </p:blipFill>
        <p:spPr>
          <a:xfrm>
            <a:off x="838080" y="2216160"/>
            <a:ext cx="6651720" cy="388296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penhagen, Denmark</a:t>
            </a:r>
            <a:endParaRPr b="0" lang="en-US" sz="3300" spc="-1" strike="noStrike">
              <a:solidFill>
                <a:srgbClr val="7b9899"/>
              </a:solidFill>
              <a:latin typeface="Georgia"/>
            </a:endParaRPr>
          </a:p>
        </p:txBody>
      </p:sp>
      <p:pic>
        <p:nvPicPr>
          <p:cNvPr id="622" name="Content Placeholder 2" descr=""/>
          <p:cNvPicPr/>
          <p:nvPr/>
        </p:nvPicPr>
        <p:blipFill>
          <a:blip r:embed="rId2"/>
          <a:stretch/>
        </p:blipFill>
        <p:spPr>
          <a:xfrm>
            <a:off x="298440" y="1523880"/>
            <a:ext cx="8510760" cy="457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inks</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rPr>
              <a:t>http://en.</a:t>
            </a:r>
            <a:r>
              <a:rPr b="0" lang="en-US" sz="2700" spc="-1" strike="noStrike" u="sng">
                <a:solidFill>
                  <a:srgbClr val="00a3d6"/>
                </a:solidFill>
                <a:uFillTx/>
                <a:latin typeface="Georgia"/>
              </a:rPr>
              <a:t>wikipedia</a:t>
            </a:r>
            <a:r>
              <a:rPr b="0" lang="en-US" sz="2700" spc="-1" strike="noStrike" u="sng">
                <a:solidFill>
                  <a:srgbClr val="00a3d6"/>
                </a:solidFill>
                <a:uFillTx/>
                <a:latin typeface="Georgia"/>
              </a:rPr>
              <a:t>.</a:t>
            </a:r>
            <a:r>
              <a:rPr b="0" lang="en-US" sz="2700" spc="-1" strike="noStrike" u="sng">
                <a:solidFill>
                  <a:srgbClr val="00a3d6"/>
                </a:solidFill>
                <a:uFillTx/>
                <a:latin typeface="Georgia"/>
              </a:rPr>
              <a:t>org/wiki/World_War_I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rPr>
              <a:t>http://en.</a:t>
            </a:r>
            <a:r>
              <a:rPr b="0" lang="en-US" sz="2700" spc="-1" strike="noStrike" u="sng">
                <a:solidFill>
                  <a:srgbClr val="00a3d6"/>
                </a:solidFill>
                <a:uFillTx/>
                <a:latin typeface="Georgia"/>
              </a:rPr>
              <a:t>wikipedia</a:t>
            </a:r>
            <a:r>
              <a:rPr b="0" lang="en-US" sz="2700" spc="-1" strike="noStrike" u="sng">
                <a:solidFill>
                  <a:srgbClr val="00a3d6"/>
                </a:solidFill>
                <a:uFillTx/>
                <a:latin typeface="Georgia"/>
              </a:rPr>
              <a:t>.</a:t>
            </a:r>
            <a:r>
              <a:rPr b="0" lang="en-US" sz="2700" spc="-1" strike="noStrike" u="sng">
                <a:solidFill>
                  <a:srgbClr val="00a3d6"/>
                </a:solidFill>
                <a:uFillTx/>
                <a:latin typeface="Georgia"/>
              </a:rPr>
              <a:t>org/wiki/Copenhag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rPr>
              <a:t>http://www.</a:t>
            </a:r>
            <a:r>
              <a:rPr b="0" lang="en-US" sz="2700" spc="-1" strike="noStrike" u="sng">
                <a:solidFill>
                  <a:srgbClr val="00a3d6"/>
                </a:solidFill>
                <a:uFillTx/>
                <a:latin typeface="Georgia"/>
              </a:rPr>
              <a:t>loislowry</a:t>
            </a:r>
            <a:r>
              <a:rPr b="0" lang="en-US" sz="2700" spc="-1" strike="noStrike" u="sng">
                <a:solidFill>
                  <a:srgbClr val="00a3d6"/>
                </a:solidFill>
                <a:uFillTx/>
                <a:latin typeface="Georgia"/>
              </a:rPr>
              <a:t>.com/bio.htm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8:49:29Z</dcterms:created>
  <dc:creator>Alexander Jacobs</dc:creator>
  <dc:description/>
  <dc:language>en-US</dc:language>
  <cp:lastModifiedBy>USC/ISI</cp:lastModifiedBy>
  <dcterms:modified xsi:type="dcterms:W3CDTF">2009-11-17T19:12:53Z</dcterms:modified>
  <cp:revision>5</cp:revision>
  <dc:subject/>
  <dc:title>Thematic Book Report on Number the Stars </dc:title>
</cp:coreProperties>
</file>